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camera.wav" ContentType="audio/x-wav"/>
  <Override PartName="/ppt/media/image8.jpeg" ContentType="image/jpeg"/>
  <Override PartName="/ppt/media/image9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607F-FCEA-4E36-A8AB-CB8697774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167FE-5CD6-4376-B370-6F3DF8628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B8C79-AE04-47AE-9868-38E69CCB8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0408-8BCE-4062-A9C7-AD342CDBA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1003-A9B2-49C2-B962-A5EF30E44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11E07-4690-44ED-83FB-A8B86DC4A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B012E-FB5C-4A42-9445-06C35084F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C2763-1364-4860-B716-CB1C6C9FB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6914-8229-417B-AB54-B7CFFAE14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BADAF-1CEC-4055-8609-EA81CA0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70363-D339-4BCC-8AC2-34B0A721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5999-AD30-40A8-8EF5-B1C5716F6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EECEA-CF0A-4500-9279-2C52DB8765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猜谜语：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八字须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往上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说话好像娃娃叫，只洗脸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梳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夜行不用灯光照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打一动物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图片1"/>
          <p:cNvPicPr/>
          <p:nvPr/>
        </p:nvPicPr>
        <p:blipFill>
          <a:blip r:embed="rId1"/>
          <a:stretch/>
        </p:blipFill>
        <p:spPr>
          <a:xfrm>
            <a:off x="612720" y="838080"/>
            <a:ext cx="4680000" cy="5253120"/>
          </a:xfrm>
          <a:prstGeom prst="rect">
            <a:avLst/>
          </a:prstGeom>
          <a:ln w="101520">
            <a:solidFill>
              <a:srgbClr val="0000ff"/>
            </a:solidFill>
            <a:bevel/>
          </a:ln>
        </p:spPr>
      </p:pic>
      <p:sp>
        <p:nvSpPr>
          <p:cNvPr id="52" name="WordArt 3"/>
          <p:cNvSpPr txBox="1"/>
          <p:nvPr/>
        </p:nvSpPr>
        <p:spPr>
          <a:xfrm>
            <a:off x="6372360" y="1484280"/>
            <a:ext cx="1584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4d0808"/>
                    </a:gs>
                  </a:gsLst>
                  <a:lin ang="5400000"/>
                </a:gradFill>
                <a:latin typeface="宋体"/>
              </a:rPr>
              <a:t>猫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4d0808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6481800" y="3645000"/>
            <a:ext cx="18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隶书"/>
              </a:rPr>
              <a:t>郑振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5" presetSubtype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0" y="1522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Arial"/>
                <a:ea typeface="楷体_GB2312"/>
              </a:rPr>
              <a:t>走进作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0" y="2256840"/>
            <a:ext cx="93250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郑振铎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98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笔名：西谛，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现代作家、翻译家、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文学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评论家、文学史家、考古学家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原籍福建长乐，生于浙江永嘉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17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入北京铁路管理学校学习，五四运动爆发后，曾作为学生代表参加社会活动，并和瞿秋白等人创办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新社会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杂志。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95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日，在率中国文化代表团出国访问途中，因飞机失事殉难。主要著作有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短篇小说集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家庭的故事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桂公塘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，散文集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山中杂记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》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3"/>
          <p:cNvSpPr/>
          <p:nvPr/>
        </p:nvSpPr>
        <p:spPr>
          <a:xfrm>
            <a:off x="900000" y="476280"/>
            <a:ext cx="590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Arial"/>
              </a:rPr>
              <a:t>写作背景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0" y="1225440"/>
            <a:ext cx="576108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本文写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925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年，是郑振铎从事文学创作的早期作品。  他深受“五四”精神影响，在这一时期的作品中，表现出新思想、新观念；表达出同情弱小无辜，谴责专制霸道；弘扬公道、民主、博爱的思想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SC20040908133605078"/>
          <p:cNvPicPr/>
          <p:nvPr/>
        </p:nvPicPr>
        <p:blipFill>
          <a:blip r:embed="rId1"/>
          <a:stretch/>
        </p:blipFill>
        <p:spPr>
          <a:xfrm>
            <a:off x="5975280" y="1197000"/>
            <a:ext cx="3168720" cy="4464000"/>
          </a:xfrm>
          <a:prstGeom prst="rect">
            <a:avLst/>
          </a:prstGeom>
          <a:ln w="2556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注音、写字</a:t>
            </a:r>
            <a:br>
              <a:rPr sz="36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ǒng yǒng (       ) 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）骂      懒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   ）  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 ）望   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）罚 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vè(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待             叮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    ）下断语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污涩 （  ）    提心（     ）胆 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蜷（     ）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 txBox="1"/>
          <p:nvPr/>
        </p:nvSpPr>
        <p:spPr>
          <a:xfrm>
            <a:off x="-360" y="907920"/>
            <a:ext cx="889308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消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耗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ào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ǒng yǒng (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怂恿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 </a:t>
            </a:r>
            <a:br>
              <a:rPr sz="4400"/>
            </a:b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诅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骂      懒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uò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凝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í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望       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惩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héng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罚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vè(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虐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待             叮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嘱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zhǔ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（  妄  ）下断语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污涩 （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è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    提心（  吊   ）胆   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蜷（ 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quán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）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68436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解释下列词语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370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怂恿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怅然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蜷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悲楚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惩戒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妄下断语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/>
          <p:cNvSpPr/>
          <p:nvPr/>
        </p:nvSpPr>
        <p:spPr>
          <a:xfrm>
            <a:off x="2484360" y="1484280"/>
            <a:ext cx="417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鼓动别人去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2411280" y="2205000"/>
            <a:ext cx="3382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不愉快的样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"/>
          <p:cNvSpPr/>
          <p:nvPr/>
        </p:nvSpPr>
        <p:spPr>
          <a:xfrm>
            <a:off x="2195640" y="3284640"/>
            <a:ext cx="3600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7"/>
          <p:cNvSpPr/>
          <p:nvPr/>
        </p:nvSpPr>
        <p:spPr>
          <a:xfrm>
            <a:off x="2411280" y="2997360"/>
            <a:ext cx="36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弯着身体卧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8"/>
          <p:cNvSpPr/>
          <p:nvPr/>
        </p:nvSpPr>
        <p:spPr>
          <a:xfrm>
            <a:off x="2411280" y="3716280"/>
            <a:ext cx="324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悲伤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2340000" y="4508640"/>
            <a:ext cx="136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惩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2771640" y="522936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胡乱下结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5"/>
          <p:cNvSpPr/>
          <p:nvPr/>
        </p:nvSpPr>
        <p:spPr>
          <a:xfrm>
            <a:off x="838080" y="0"/>
            <a:ext cx="4191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6"/>
          <p:cNvSpPr/>
          <p:nvPr/>
        </p:nvSpPr>
        <p:spPr>
          <a:xfrm>
            <a:off x="914400" y="10666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7"/>
          <p:cNvSpPr/>
          <p:nvPr/>
        </p:nvSpPr>
        <p:spPr>
          <a:xfrm>
            <a:off x="457200" y="320040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457200" y="556272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9"/>
          <p:cNvSpPr/>
          <p:nvPr/>
        </p:nvSpPr>
        <p:spPr>
          <a:xfrm>
            <a:off x="1187280" y="18900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整体感知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0"/>
          <p:cNvSpPr/>
          <p:nvPr/>
        </p:nvSpPr>
        <p:spPr>
          <a:xfrm>
            <a:off x="0" y="1052640"/>
            <a:ext cx="914400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找出本文中心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文章写了几只猫，重点写了哪一只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全文可以分为几个部分？找出有关起止段落，划分课文结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速读课文，从三只猫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来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外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性情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在家中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地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和我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情感变化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几个方面，完成下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0" y="404640"/>
            <a:ext cx="9145440" cy="645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找出本文中心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家养了好几次猫，结局总是失踪或死亡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点明了“我”家养猫的结局是“失踪或死亡”，为全文定下基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三只，重点是第三只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文章可分三个部分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一部分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-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）第一只猫的故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二部分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）活泼可不幸亡失的故事爱的第二只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第三部分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段）第三只猫的亡失让我难过自责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0" y="189000"/>
          <a:ext cx="8856720" cy="6492960"/>
        </p:xfrm>
        <a:graphic>
          <a:graphicData uri="http://schemas.openxmlformats.org/drawingml/2006/table">
            <a:tbl>
              <a:tblPr/>
              <a:tblGrid>
                <a:gridCol w="1459080"/>
                <a:gridCol w="1060200"/>
                <a:gridCol w="2124000"/>
                <a:gridCol w="1062360"/>
                <a:gridCol w="1098360"/>
                <a:gridCol w="882720"/>
                <a:gridCol w="1170000"/>
              </a:tblGrid>
              <a:tr h="96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来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       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外形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性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家中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地位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 </a:t>
                      </a: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结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感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行楷"/>
                        </a:rPr>
                        <a:t>变化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6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一只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  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1-2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二只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3-14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1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第三只猫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15-34</a:t>
                      </a:r>
                      <a:r>
                        <a:rPr b="1" lang="zh-CN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华文新魏"/>
                        </a:rPr>
                        <a:t>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9" name="Text Box 44"/>
          <p:cNvSpPr/>
          <p:nvPr/>
        </p:nvSpPr>
        <p:spPr>
          <a:xfrm>
            <a:off x="1547640" y="148428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从隔壁要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5"/>
          <p:cNvSpPr/>
          <p:nvPr/>
        </p:nvSpPr>
        <p:spPr>
          <a:xfrm>
            <a:off x="1403280" y="3573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6"/>
          <p:cNvSpPr/>
          <p:nvPr/>
        </p:nvSpPr>
        <p:spPr>
          <a:xfrm>
            <a:off x="1619280" y="314172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舅舅家要来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7"/>
          <p:cNvSpPr/>
          <p:nvPr/>
        </p:nvSpPr>
        <p:spPr>
          <a:xfrm>
            <a:off x="1547640" y="5084640"/>
            <a:ext cx="720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蜷伏在家门口，收留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8"/>
          <p:cNvSpPr/>
          <p:nvPr/>
        </p:nvSpPr>
        <p:spPr>
          <a:xfrm>
            <a:off x="2556000" y="148428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花白的毛，很活泼，如带着泥土的白雪球似的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9"/>
          <p:cNvSpPr/>
          <p:nvPr/>
        </p:nvSpPr>
        <p:spPr>
          <a:xfrm>
            <a:off x="2700360" y="328464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Arial"/>
              </a:rPr>
              <a:t>浑身 </a:t>
            </a: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黄 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0"/>
          <p:cNvSpPr/>
          <p:nvPr/>
        </p:nvSpPr>
        <p:spPr>
          <a:xfrm>
            <a:off x="2556000" y="5013360"/>
            <a:ext cx="19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毛色花白，不好看。很瘦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,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毛烧脱后，更难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1"/>
          <p:cNvSpPr/>
          <p:nvPr/>
        </p:nvSpPr>
        <p:spPr>
          <a:xfrm>
            <a:off x="4788000" y="1197000"/>
            <a:ext cx="79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很活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52"/>
          <p:cNvSpPr/>
          <p:nvPr/>
        </p:nvSpPr>
        <p:spPr>
          <a:xfrm>
            <a:off x="4643280" y="3141720"/>
            <a:ext cx="865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更有趣更活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3"/>
          <p:cNvSpPr/>
          <p:nvPr/>
        </p:nvSpPr>
        <p:spPr>
          <a:xfrm>
            <a:off x="4788000" y="522936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忧郁懒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 flipH="1">
            <a:off x="5795280" y="148428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小侣宠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5796000" y="3068640"/>
            <a:ext cx="79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宠物亲爱的同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6"/>
          <p:cNvSpPr/>
          <p:nvPr/>
        </p:nvSpPr>
        <p:spPr>
          <a:xfrm>
            <a:off x="5796000" y="5300640"/>
            <a:ext cx="7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若有若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 flipH="1">
            <a:off x="7020000" y="1557360"/>
            <a:ext cx="122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58"/>
          <p:cNvSpPr/>
          <p:nvPr/>
        </p:nvSpPr>
        <p:spPr>
          <a:xfrm>
            <a:off x="7020000" y="3141720"/>
            <a:ext cx="790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9"/>
          <p:cNvSpPr/>
          <p:nvPr/>
        </p:nvSpPr>
        <p:spPr>
          <a:xfrm>
            <a:off x="7020000" y="5229360"/>
            <a:ext cx="5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冤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7885080" y="1197000"/>
            <a:ext cx="7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一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酸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7956720" y="3213000"/>
            <a:ext cx="971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怅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愤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诅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2"/>
          <p:cNvSpPr/>
          <p:nvPr/>
        </p:nvSpPr>
        <p:spPr>
          <a:xfrm>
            <a:off x="8028000" y="5084640"/>
            <a:ext cx="936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难过自责愧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良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Arial"/>
              </a:rPr>
              <a:t>受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61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这三只猫中，你印象最深刻的是哪一只？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为什么会给你留下点深刻的印象呢？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文中的“我”印象最深的又是哪只呢？（第三只）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3" descr="c324313543b0c89ca61e1218"/>
          <p:cNvPicPr/>
          <p:nvPr/>
        </p:nvPicPr>
        <p:blipFill>
          <a:blip r:embed="rId1"/>
          <a:stretch/>
        </p:blipFill>
        <p:spPr>
          <a:xfrm>
            <a:off x="34920" y="1341360"/>
            <a:ext cx="9002880" cy="54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179280" y="980640"/>
            <a:ext cx="8785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默读课文，“我”家一共养了三只猫，这三只猫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请你用句式说一说“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读了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-------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，我看到了一只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---------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的猫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。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-171720"/>
            <a:ext cx="9144000" cy="389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它便扑过来抢，又扑过去抢。”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一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活泼可爱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小猫。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处猫的动作和描写可谓文笔的精华，它用朴素的言语，创造了一只活泼可爱的猫的形象 ，更重要的是能够唤起我们的想象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小猫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逗玩的动态、情态栩栩如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-252720" y="3573360"/>
            <a:ext cx="9396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“有时蝴蝶安详地飞过时，它也会扑过去捉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只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更活泼更有趣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小猫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一个镜头，就是一幅美丽的图画，小黄猫圆圆的脑袋、转来转去的眼睛、伺机捕捉的形神跃然纸上，真是妙笔生辉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0" y="333360"/>
            <a:ext cx="91440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“冬天的早晨，门口蜷伏着一只很可怜的小猫。”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—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只可怜的猫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、从哪里看出第三只小猫可怜？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561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、从哪里看出第三只小猫可怜？</a:t>
            </a: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来得可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在冬天的早晨它被人遗弃，无家可归，几乎为冬寒与饥饿所杀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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活得可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不好看，大家都不大喜欢它，它不活泼，不像别的小猫那样喜欢顽游，对于它 不加注意，仍不活泼，仍不改它的忧郁性，不去捉鼠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</a:t>
            </a:r>
            <a:br>
              <a:rPr sz="3600"/>
            </a:b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去得可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：受了冤苦，遭我毒打而屈死。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0" y="333000"/>
            <a:ext cx="9468000" cy="58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这几只不同的猫，文中的“我”有着怎样的感情呢？现在我们就去感悟一下“我”的感情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请独立标记，然后小组内交流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按句式说话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“读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，我体味到</a:t>
            </a:r>
            <a:r>
              <a:rPr b="1" lang="en-US" sz="4400" spc="-1" strike="noStrike" u="sng">
                <a:solidFill>
                  <a:srgbClr val="ff0000"/>
                </a:solidFill>
                <a:uFillTx/>
                <a:latin typeface="Arial"/>
              </a:rPr>
              <a:t>       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之情。”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3"/>
          <p:cNvSpPr/>
          <p:nvPr/>
        </p:nvSpPr>
        <p:spPr>
          <a:xfrm>
            <a:off x="0" y="5157720"/>
            <a:ext cx="360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读“我坐在藤椅上看着他们，可以微笑着消耗过一二小时的光阴，那时太阳光暖暖地照着，心上感着生命的新鲜与快乐”，我体味到“我”的愉悦之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 “我心里感着一缕的酸辛，可怜这两月来相伴的小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” ——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”为花白猫的病死而难过、酸辛。人一旦对自己喜爱的东西产生了感情，就会为它的不幸而难过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我也怅然的，愤恨的，在诅骂着那个不知名的夺去我们所爱的东西的人。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——“我”失猫的怅然，对恶人的愤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些损人利己的人实在可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自此，我家好久不养猫。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突然间失去了一个亲爱的同伴，一种失落感久久萦绕在心，缺德的人太气人了，叫人恨恨难消， 养猫固然快乐，可是亡失的痛苦更让人难受，干脆不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“自此，我家永不养猫。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——一种负罪感永远不能消除，一见到猫就触发了自己灵魂的伤痛，觉得永远愧对这类生命。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3197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325080" cy="539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何理解：</a:t>
            </a:r>
            <a:br>
              <a:rPr sz="4000"/>
            </a:b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想到它的无抵抗的逃避，益使我感到我的暴怒，我的虐待，都是针，刺我的良心的针！”使用了什么手法，作者要表达什么意思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-360" y="333360"/>
            <a:ext cx="9325080" cy="652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比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突出我明白真相后，知道猫因我的主观臆断而死，不能挽回，而更加内疚后悔。这也就说明第三只猫的死责任在“我”。“我”的主观臆断，断定鸟是它咬死的，暴怒之下“我”用木棒打它，它受到冤苦无处辩诉，最后死在邻家屋檐上。“我”认为是“我”把它害死的，而且这个过失是无法补救的。因此“我”对于第三只猫的死亡比前两只猫的亡失更“难过得多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4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讨论文章的主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-360" y="1197000"/>
            <a:ext cx="8893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本文采用了第一人称的叙述方式，采用这种叙述方式有什么好处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自此，我家永不养猫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这句话也是全文的结尾，它在内容和结构上有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删去写前两只猫的文字可以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79280" y="259920"/>
            <a:ext cx="8964720" cy="440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作品中虚构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是三只猫的主人，他喜欢前两只猫，厌恶第三只猫；他就是前两只猫的悲剧的目击者，又是第三只猫的悲剧制造者。这样，作者可以极自然地利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文章的地位，借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之口，抒发作者的真情实感，揭示作品的主题思想，引起读者共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内容上是对全文的总结。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目睹了前两只猫的不幸后，又亲自制造了第三只猫的悲剧，深感负疚，为了不再看到这样的悲剧重演下去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此，我家永不养猫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句话与文章的开头遥相呼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</a:rPr>
              <a:t>在结构上形成了首尾呼应的特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不行，三次养猫的故事层层推进，前两只猫是为详写第三只猫作铺垫，也是与第三只猫形成鲜明的对比。更有利于更好地刻画形象、凸现中心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图片1"/>
          <p:cNvPicPr/>
          <p:nvPr/>
        </p:nvPicPr>
        <p:blipFill>
          <a:blip r:embed="rId1"/>
          <a:stretch/>
        </p:blipFill>
        <p:spPr>
          <a:xfrm>
            <a:off x="-108000" y="620640"/>
            <a:ext cx="9144000" cy="606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50560" y="549000"/>
            <a:ext cx="889308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延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真相大白后，从我的忏悔中，可以看出我是一个怎样的人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就小猫受冤这件事，从这件事中，我们得到哪些人生启示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179280" y="549360"/>
            <a:ext cx="8964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对于作品中的“我”，对于“我”妄下断语打死可怜猫的事件，我想说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凡事不能单凭印象，主观武断，要弄清事实，否则就会造成不可弥补的过失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、对人对事不存偏见私心；要客观公正。善待生命，同情弱小者，要宽容、仁爱；不要残忍。要多为他人着想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179280" y="549360"/>
            <a:ext cx="8964720" cy="630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启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对于作品中的猫，我想说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在不合理的社会中，弱小者总是饱尝着生活的不幸，不受欢迎的人往往会成为冤案的牺牲品；人的个性需要自我完善，才能避免不幸。 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</a:t>
            </a: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3"/>
          <p:cNvSpPr/>
          <p:nvPr/>
        </p:nvSpPr>
        <p:spPr>
          <a:xfrm>
            <a:off x="1042920" y="836640"/>
            <a:ext cx="7696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116000" y="2421000"/>
            <a:ext cx="6335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凡事不能单凭印象， 主观臆断，更重要的是弄清事实；对人对事不存偏见私心，要宽容、 要仁爱，要同情弱小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340000" y="692280"/>
            <a:ext cx="50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小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同学们，读郑振铎的《猫》会有这样的感慨：这哪里是在写猫呢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?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分明是一幕世态人情的写真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!</a:t>
            </a:r>
            <a:r>
              <a:rPr b="1" lang="zh-CN" sz="4000" spc="-1" strike="noStrike">
                <a:solidFill>
                  <a:srgbClr val="333399"/>
                </a:solidFill>
                <a:latin typeface="Arial"/>
              </a:rPr>
              <a:t>在我们的生活中也有很多这样的弱小的“猫”，所以，请大家关爱生活中的“猫”</a:t>
            </a: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!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7854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送给同学们：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你也许不是最美丽的，但你可以最可爱；你也许不是最聪明的，但你可以最勤奋；你也许不会最顺利，但你可以最乐观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同学们，不论走到哪里，你们一定要让自己成为最好的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——</a:t>
            </a:r>
            <a:r>
              <a:rPr b="1" lang="zh-CN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最绿的小草，最纯的水滴，最亮的星星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……</a:t>
            </a:r>
            <a:r>
              <a:rPr b="1" lang="en-US" sz="40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3"/>
          <p:cNvSpPr/>
          <p:nvPr/>
        </p:nvSpPr>
        <p:spPr>
          <a:xfrm>
            <a:off x="826920" y="1197000"/>
            <a:ext cx="5329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关注弱小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4859280" y="1268280"/>
            <a:ext cx="446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尊重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826920" y="3284640"/>
            <a:ext cx="468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Arial"/>
              </a:rPr>
              <a:t>善待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他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859280" y="3213000"/>
            <a:ext cx="42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66"/>
                </a:solidFill>
                <a:latin typeface="Arial"/>
              </a:rPr>
              <a:t>共建和谐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2"/>
          <p:cNvSpPr/>
          <p:nvPr/>
        </p:nvSpPr>
        <p:spPr>
          <a:xfrm>
            <a:off x="2666880" y="0"/>
            <a:ext cx="4038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ff"/>
                </a:solidFill>
                <a:latin typeface="Arial"/>
                <a:ea typeface="楷体_GB2312"/>
              </a:rPr>
              <a:t>推荐阅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990720" y="1066680"/>
            <a:ext cx="662940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海燕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动物世界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家庭的故事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桂公堂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山中杂记</a:t>
            </a:r>
            <a:r>
              <a:rPr b="1" lang="en-US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2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Cat_018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a3bd2e33f8211c23eac4af54"/>
          <p:cNvPicPr/>
          <p:nvPr/>
        </p:nvPicPr>
        <p:blipFill>
          <a:blip r:embed="rId1"/>
          <a:stretch/>
        </p:blipFill>
        <p:spPr>
          <a:xfrm>
            <a:off x="42840" y="117360"/>
            <a:ext cx="4278240" cy="64803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b96661aeeeaca1f07dd92a64"/>
          <p:cNvPicPr/>
          <p:nvPr/>
        </p:nvPicPr>
        <p:blipFill>
          <a:blip r:embed="rId2"/>
          <a:stretch/>
        </p:blipFill>
        <p:spPr>
          <a:xfrm>
            <a:off x="4284720" y="117360"/>
            <a:ext cx="4832280" cy="646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764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dissolve/>
    <p:sndAc>
      <p:stSnd>
        <p:snd r:embed="rId2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Ktcat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hecker dir="vert"/>
    <p:sndAc>
      <p:stSnd>
        <p:snd r:embed="rId2" name="camera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Catloo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cover dir="ld"/>
    <p:sndAc>
      <p:stSnd>
        <p:snd r:embed="rId2" name="camera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advTm="2000">
    <p:blinds dir="vert"/>
    <p:sndAc>
      <p:stSnd>
        <p:snd r:embed="rId2" name="camera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dministrator</dc:creator>
  <dc:description/>
  <dc:language>en-US</dc:language>
  <cp:lastModifiedBy>Administrator</cp:lastModifiedBy>
  <dcterms:modified xsi:type="dcterms:W3CDTF">2018-01-08T00:52:46Z</dcterms:modified>
  <cp:revision>10</cp:revision>
  <dc:subject/>
  <dc:title>猜谜语： 八字须,往上翘,说话好像娃娃叫，只洗脸,不梳头,夜行不用灯光照。 （打一动物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